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0950-15DB-446A-BFA6-B8750516A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2F79-BD9E-41EC-A118-CE4C228E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DF33-9236-4539-A82A-CD48F11B5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BA0D-F889-4C3B-A9EE-BC47D84F3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E44C-3B2C-4066-AD55-78F9481C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4119-4262-4916-AAC2-5E3A77C2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176D-3CF1-4AE3-BF56-9B850081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6A4C-0434-405A-B8CF-5887686A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02E1-9FE3-4462-817C-572A7A75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9378-198B-4802-AF57-BC2B5FCC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E3A0-01BA-424A-9DC2-6D71D181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1C7A-DDCE-4634-B5D6-B7A3DE7A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0146-3002-4187-9819-C934B2C088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gi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gi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522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Los medio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038480" y="4419720"/>
            <a:ext cx="1168560" cy="1276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2133720" cy="612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010280" y="0"/>
            <a:ext cx="1828800" cy="987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0" y="4952880"/>
            <a:ext cx="1600200" cy="1551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7162920" y="1600200"/>
            <a:ext cx="1676160" cy="1017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380880" y="1752480"/>
            <a:ext cx="1440000" cy="1123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7467480" y="5618160"/>
            <a:ext cx="1371600" cy="1239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3733920" y="990720"/>
            <a:ext cx="1514520" cy="1141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3733920" y="5967360"/>
            <a:ext cx="1739880" cy="890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3962520" y="2666880"/>
            <a:ext cx="1295280" cy="1068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>
            <a:off x="7238880" y="3505320"/>
            <a:ext cx="1447920" cy="1199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>
            <a:off x="609480" y="3505320"/>
            <a:ext cx="106524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1522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Los medio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62520" y="3962520"/>
            <a:ext cx="1098360" cy="1199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133720" cy="612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010280" y="0"/>
            <a:ext cx="1828800" cy="987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0" y="4952880"/>
            <a:ext cx="1600200" cy="1551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7162920" y="1600200"/>
            <a:ext cx="1676160" cy="1017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380880" y="1752480"/>
            <a:ext cx="1440000" cy="1123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7467480" y="5618160"/>
            <a:ext cx="1371600" cy="1239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8"/>
          <a:stretch/>
        </p:blipFill>
        <p:spPr>
          <a:xfrm>
            <a:off x="3809880" y="1066680"/>
            <a:ext cx="1514520" cy="1141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9"/>
          <a:stretch/>
        </p:blipFill>
        <p:spPr>
          <a:xfrm>
            <a:off x="3657600" y="5715000"/>
            <a:ext cx="1801800" cy="922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0"/>
          <a:stretch/>
        </p:blipFill>
        <p:spPr>
          <a:xfrm>
            <a:off x="3886200" y="2666880"/>
            <a:ext cx="1295280" cy="1068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1"/>
          <a:stretch/>
        </p:blipFill>
        <p:spPr>
          <a:xfrm>
            <a:off x="7238880" y="3505320"/>
            <a:ext cx="1447920" cy="1199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2"/>
          <a:stretch/>
        </p:blipFill>
        <p:spPr>
          <a:xfrm>
            <a:off x="609480" y="3429000"/>
            <a:ext cx="106524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2" dur="1" fill="hold"/>
                                  <p:tgtEl>
                                    <p:spTgt spid="6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22:04:05Z</dcterms:created>
  <dc:creator>Deborah</dc:creator>
  <dc:description/>
  <dc:language>en-US</dc:language>
  <cp:lastModifiedBy>Chris Fuller</cp:lastModifiedBy>
  <dcterms:modified xsi:type="dcterms:W3CDTF">2006-09-30T14:49:42Z</dcterms:modified>
  <cp:revision>5</cp:revision>
  <dc:subject/>
  <dc:title>PowerPoint Presentation</dc:title>
</cp:coreProperties>
</file>